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Palatino"/>
              </a:rPr>
              <a:t>Click to edit the title text format</a:t>
            </a: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Click to edit the outline text format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2" marL="343080" indent="-343080">
              <a:spcBef>
                <a:spcPts val="700"/>
              </a:spcBef>
              <a:buClr>
                <a:srgbClr val="333399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Third Outline Level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Fourth Outline Level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Fifth Outline Level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Sixth Outline Level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Seventh Outline Level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  <p:sp>
        <p:nvSpPr>
          <p:cNvPr id="2" name=""/>
          <p:cNvSpPr/>
          <p:nvPr/>
        </p:nvSpPr>
        <p:spPr>
          <a:xfrm>
            <a:off x="842040" y="6294600"/>
            <a:ext cx="141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Palatino"/>
              </a:rPr>
              <a:t>A Gift of Fire, 2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311280" y="6294600"/>
            <a:ext cx="343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hapter 2: Privacy and Personal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570800" y="6294600"/>
            <a:ext cx="939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AB436-351E-4E97-B461-F6AE018572CA}" type="slidenum">
              <a:rPr b="0" lang="en-US" sz="12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010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PowerPoint</a:t>
            </a:r>
            <a:r>
              <a:rPr b="0" lang="en-US" sz="1800" spc="-1" strike="noStrike" baseline="30000">
                <a:solidFill>
                  <a:srgbClr val="000000"/>
                </a:solidFill>
                <a:latin typeface="Palatino"/>
              </a:rPr>
              <a:t>®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 Slides to Accompany</a:t>
            </a:r>
            <a:endParaRPr b="0" lang="en-US" sz="1800" spc="-1" strike="noStrike">
              <a:solidFill>
                <a:srgbClr val="993300"/>
              </a:solidFill>
              <a:latin typeface="Palatino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Palatino"/>
              </a:rPr>
              <a:t>A Gift of Fire</a:t>
            </a:r>
            <a:r>
              <a:rPr b="1" i="1" lang="en-US" sz="2800" spc="-1" strike="noStrike">
                <a:solidFill>
                  <a:srgbClr val="000000"/>
                </a:solidFill>
                <a:latin typeface="Palatino"/>
              </a:rPr>
              <a:t>: Social, Legal, and Ethical Issues for Computers and the Internet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marL="343080"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(2nd Edition)</a:t>
            </a:r>
            <a:endParaRPr b="0" lang="en-US" sz="1800" spc="-1" strike="noStrike">
              <a:solidFill>
                <a:srgbClr val="993300"/>
              </a:solidFill>
              <a:latin typeface="Palatino"/>
            </a:endParaRPr>
          </a:p>
          <a:p>
            <a:pPr marL="34308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by</a:t>
            </a: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 Sara Baase</a:t>
            </a:r>
            <a:endParaRPr b="0" lang="en-US" sz="2000" spc="-1" strike="noStrike">
              <a:solidFill>
                <a:srgbClr val="993300"/>
              </a:solidFill>
              <a:latin typeface="Palatino"/>
            </a:endParaRPr>
          </a:p>
          <a:p>
            <a:pPr marL="343080"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San Diego State University</a:t>
            </a:r>
            <a:endParaRPr b="0" lang="en-US" sz="1800" spc="-1" strike="noStrike">
              <a:solidFill>
                <a:srgbClr val="993300"/>
              </a:solidFill>
              <a:latin typeface="Palatino"/>
            </a:endParaRPr>
          </a:p>
          <a:p>
            <a:pPr marL="343080"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00"/>
              </a:solidFill>
              <a:latin typeface="Palatino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PowerPoint slides created by Sherry Clark</a:t>
            </a:r>
            <a:endParaRPr b="0" lang="en-US" sz="1600" spc="-1" strike="noStrike">
              <a:solidFill>
                <a:srgbClr val="993300"/>
              </a:solidFill>
              <a:latin typeface="Palatino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Copyright 2003 Prentice Hall</a:t>
            </a:r>
            <a:endParaRPr b="0" lang="en-US" sz="1600" spc="-1" strike="noStrike">
              <a:solidFill>
                <a:srgbClr val="9933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“</a:t>
            </a: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Big Brother is Watching You”</a:t>
            </a:r>
            <a:endParaRPr b="0" lang="en-US" sz="32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4</a:t>
            </a:r>
            <a:r>
              <a:rPr b="0" lang="en-US" sz="1800" spc="-1" strike="noStrike" baseline="30000">
                <a:solidFill>
                  <a:srgbClr val="993300"/>
                </a:solidFill>
                <a:latin typeface="Palatino"/>
              </a:rPr>
              <a:t>th</a:t>
            </a: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 Amendment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Expectation of Privacy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Government’s rights are limited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Government must have probable cause to search private premises or seize document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rivacy Challenges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New sensing and surveillance technologies enable the government access to private premises without physical entry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New technologies provide the government with access to huge amounts of personal data in business database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Courts allow some searches and seizures of computers without search warrant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5791320"/>
            <a:ext cx="75438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Has technology strengthened or weakened the spirit of the 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mendment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Consumer Information</a:t>
            </a:r>
            <a:endParaRPr b="0" lang="en-US" sz="32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Consumer Databases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Gathering Information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Warranty card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Purchasing record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Membership list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Web activity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Change-of-address form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Much more…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5715000"/>
            <a:ext cx="67057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Recall ways in which you have contributed to consumer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Consumer Information</a:t>
            </a:r>
            <a:endParaRPr b="0" lang="en-US" sz="32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Consumer Databases </a:t>
            </a:r>
            <a:r>
              <a:rPr b="0" lang="en-US" sz="1800" spc="-1" strike="noStrike">
                <a:solidFill>
                  <a:srgbClr val="993300"/>
                </a:solidFill>
                <a:latin typeface="Palatino"/>
              </a:rPr>
              <a:t>(cont’d)</a:t>
            </a:r>
            <a:endParaRPr b="0" lang="en-US" sz="1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Limiting Collection, Use, Sharing, and Sale of Personal Data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Consumers can take measures to restrict the use of their personal information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Some information sharing is prohibited by law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Some information sharing is prohibited by published, privacy policie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5334120"/>
            <a:ext cx="6858000" cy="734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What measures do you take to limit consumer information gathered about you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Consumer Information</a:t>
            </a:r>
            <a:endParaRPr b="0" lang="en-US" sz="32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Marketing: Using Consumer Information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Trading/buying customer list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Telemarketing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Data Mining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Mass-marketing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Web ad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Spam (unsolicited e-mail)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5715000"/>
            <a:ext cx="69343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How are children affected by marketers using consumer informatio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Consumer Information</a:t>
            </a:r>
            <a:endParaRPr b="0" lang="en-US" sz="32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Credit Bureaus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Uses of consumer information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Evaluate credit risk of applicant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Marketing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Regulation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FCRA (Fair Credit Reporting Act)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Self-regulated by privacy principle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5715000"/>
            <a:ext cx="66294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If you are denied credit, what are your rights based on the FCR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More Privacy Risks</a:t>
            </a:r>
            <a:endParaRPr b="0" lang="en-US" sz="32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Social Security Numbers (SSNs)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Appear in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Employer record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Government database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School record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Credit report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Consumer application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Many other database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5715000"/>
            <a:ext cx="50292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What are the risks of using SSNs as identifier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More Privacy Risks</a:t>
            </a:r>
            <a:endParaRPr b="0" lang="en-US" sz="32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National ID Card System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If implemented, the card could contain your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Name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Addres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Telephone number(s)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Photo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SSN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5715000"/>
            <a:ext cx="67820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What other personal information should a national ID card contai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More Privacy Risks</a:t>
            </a:r>
            <a:endParaRPr b="0" lang="en-US" sz="32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National ID Card System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If implemented, the system could allow access to your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Medical information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Tax record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Citizenship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Credit history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Much more…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5715000"/>
            <a:ext cx="63248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Are the benefits of a national ID system greater than the risk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More Privacy Risks</a:t>
            </a:r>
            <a:endParaRPr b="0" lang="en-US" sz="32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Personal Health and Medical Information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Data can include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History of substance abuse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Treatment for sexually transmitted disease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Extent of psychiatric help received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Any suicide attempt(s)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Diagnosis of diseases (diabetes, angina, cancer, etc.)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Use of prescribed medicine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Much more…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5715000"/>
            <a:ext cx="6553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Why would marketers want access to your medical informatio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More Privacy Risks</a:t>
            </a:r>
            <a:endParaRPr b="0" lang="en-US" sz="32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Public Records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Available in paper form and/or online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Bankruptcy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Arrest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Marriage-license application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Divorce proceeding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Property ownership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Salary (if employed by state or federal government)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Wills and Trust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Much more…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5715000"/>
            <a:ext cx="53341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How should access to public records be controlle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600cc"/>
                </a:solidFill>
                <a:latin typeface="Palatino"/>
              </a:rPr>
              <a:t>A Gift of Fire</a:t>
            </a: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84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Privacy and Personal Information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97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The Impact of Computer Technology</a:t>
            </a:r>
            <a:endParaRPr b="0" lang="en-US" sz="1800" spc="-1" strike="noStrike">
              <a:solidFill>
                <a:srgbClr val="993300"/>
              </a:solidFill>
              <a:latin typeface="Palatino"/>
            </a:endParaRPr>
          </a:p>
          <a:p>
            <a:pPr lvl="1" marL="797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Big Brother is Watching You”</a:t>
            </a:r>
            <a:endParaRPr b="0" lang="en-US" sz="1800" spc="-1" strike="noStrike">
              <a:solidFill>
                <a:srgbClr val="993300"/>
              </a:solidFill>
              <a:latin typeface="Palatino"/>
            </a:endParaRPr>
          </a:p>
          <a:p>
            <a:pPr lvl="1" marL="797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Consumer Information</a:t>
            </a:r>
            <a:endParaRPr b="0" lang="en-US" sz="1800" spc="-1" strike="noStrike">
              <a:solidFill>
                <a:srgbClr val="993300"/>
              </a:solidFill>
              <a:latin typeface="Palatino"/>
            </a:endParaRPr>
          </a:p>
          <a:p>
            <a:pPr lvl="1" marL="797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More Privacy Risks</a:t>
            </a:r>
            <a:endParaRPr b="0" lang="en-US" sz="1800" spc="-1" strike="noStrike">
              <a:solidFill>
                <a:srgbClr val="993300"/>
              </a:solidFill>
              <a:latin typeface="Palatino"/>
            </a:endParaRPr>
          </a:p>
          <a:p>
            <a:pPr lvl="1" marL="797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Protecting Privacy: Education, Technology, and Markets</a:t>
            </a:r>
            <a:endParaRPr b="0" lang="en-US" sz="1800" spc="-1" strike="noStrike">
              <a:solidFill>
                <a:srgbClr val="993300"/>
              </a:solidFill>
              <a:latin typeface="Palatino"/>
            </a:endParaRPr>
          </a:p>
          <a:p>
            <a:pPr lvl="1" marL="797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Protecting Privacy: Law and Regulation</a:t>
            </a:r>
            <a:endParaRPr b="0" lang="en-US" sz="1800" spc="-1" strike="noStrike">
              <a:solidFill>
                <a:srgbClr val="9933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Protecting Privacy: Education, Technology, and Markets</a:t>
            </a:r>
            <a:endParaRPr b="0" lang="en-US" sz="32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Education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Must include awareness of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How the technology work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How the technology is being used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The risks brought on by the technology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How to limit unwanted use of personal information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Applicable state and federal laws and regulation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5715000"/>
            <a:ext cx="63248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How do you limit unwanted use of your personal informatio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Protecting Privacy: Education, Technology, and Markets</a:t>
            </a:r>
            <a:endParaRPr b="0" lang="en-US" sz="32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Technology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Enhance privacy using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Cookie disabler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Opt-in/opt-out option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Anonymous Web service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P3P (Platform for Privacy Preferences)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‘</a:t>
            </a: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Good’ password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Audit trail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5715000"/>
            <a:ext cx="5943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What privacy-enhancing technology do you use regularl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Protecting Privacy: Education, Technology, and Markets</a:t>
            </a:r>
            <a:endParaRPr b="0" lang="en-US" sz="32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Market Response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Markets can protect your privacy by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Using trusted third partie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Adhering to established privacy policie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Purchasing consumer information directly from the consumer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Developing and selling privacy-enhancing technologies and service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5715000"/>
            <a:ext cx="64008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Have you read the privacy policies at Web sites you frequent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Protecting Privacy: Law and Regulation</a:t>
            </a:r>
            <a:endParaRPr b="0" lang="en-US" sz="32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Philosophical Views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amuel Warren &amp; Louis Brandeis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Individuals have the right to prohibit publication of personal facts and photo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Judith Jarvis Thompson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No distinct right to privacy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Privacy rights result from rights to our property, body, and contract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Transactions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Transactions have two parties, often with conflicting preferences about privacy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5410080"/>
            <a:ext cx="7391520" cy="734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How should rights to information about transactions between two parties be assigne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Protecting Privacy: Law and Regulation</a:t>
            </a:r>
            <a:endParaRPr b="0" lang="en-US" sz="32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Contrasting Views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ree-market View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The parties of a transaction are viewed as equal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Truth in information gathering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Strong reliance on contract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Freedom of speech and commerce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Consumer-Protection View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The parties of a transaction are viewed differently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More stringent consent requirements required by law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Strong limitations on secondary uses of information required by law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Legal restrictions on consumer profiling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5715000"/>
            <a:ext cx="64008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How should the privacy of consumer transactions be regulate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Protecting Privacy: Law and Regulation</a:t>
            </a:r>
            <a:endParaRPr b="0" lang="en-US" sz="32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Contracts and Regulations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Basic Legal Framework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Enforce agreements and contract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Publish privacy policie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Set defaults for situations not in contract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Requiring Specific Consent policies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Adhere to informed consumer consent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Use opt-in policie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Legal Regulations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Determine effectiveness, direct and hidden costs, and any loss of services or inconvenience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5562720"/>
            <a:ext cx="7315200" cy="734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Recall a situation where you exchanged personal information for some benefi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Protecting Privacy: Law and Regulation</a:t>
            </a:r>
            <a:endParaRPr b="0" lang="en-US" sz="32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Contracts and Regulations </a:t>
            </a:r>
            <a:r>
              <a:rPr b="0" lang="en-US" sz="1800" spc="-1" strike="noStrike">
                <a:solidFill>
                  <a:srgbClr val="993300"/>
                </a:solidFill>
                <a:latin typeface="Palatino"/>
              </a:rPr>
              <a:t>(cont’d)</a:t>
            </a:r>
            <a:endParaRPr b="0" lang="en-US" sz="1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Ownership of personal data. Can an individual own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Facts (e.g. marriage license in public records)?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Personal information (e.g. your date of birth)?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reedom of speech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Prohibiting communication of information may violate the 1</a:t>
            </a:r>
            <a:r>
              <a:rPr b="0" lang="en-US" sz="1400" spc="-1" strike="noStrike" baseline="30000">
                <a:solidFill>
                  <a:srgbClr val="333399"/>
                </a:solidFill>
                <a:latin typeface="Palatino"/>
              </a:rPr>
              <a:t>st</a:t>
            </a: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 Amendment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5715000"/>
            <a:ext cx="64008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When does protecting privacy conflict with freedom of speech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Protecting Privacy: Law and Regulation</a:t>
            </a:r>
            <a:endParaRPr b="0" lang="en-US" sz="32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EU (European Union) Privacy Regulation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Key points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Limited collection of personal data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Data must be up-to-date and destroyed when no longer needed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Consent for sharing data is required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Sensitive data (e.g. religion) can only be provided with consent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Notify consumers about the collection and intended purpose of data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Restricted access and sharing of criminal conviction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5715000"/>
            <a:ext cx="51818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Can the EU’s privacy regulations work in the U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The Impact of Computer Technology</a:t>
            </a:r>
            <a:endParaRPr b="0" lang="en-US" sz="32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Computers are not needed for the invasion of privacy.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Computers simply make new threats possible and old threats more potent.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Privacy can mean: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Freedom from intrusion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Control of information about oneself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Freedom from surveillance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The Impact of Computer Technology</a:t>
            </a:r>
            <a:endParaRPr b="0" lang="en-US" sz="32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Invisible Information Gathering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Satellite surveillance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Caller ID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800- or 900-number call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Loyalty card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Web-tracking data; cookie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Peer-to-peer monitoring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Others…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5715000"/>
            <a:ext cx="6400800" cy="734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Recall an example of invisible information gathering about yo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The Impact of Computer Technology</a:t>
            </a:r>
            <a:endParaRPr b="0" lang="en-US" sz="32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Secondary Use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Using information for a purpose other than the one for which it was obtained. A few examples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Sale (or trade) of consumer information to other businesse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Credit check by a prospective employer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Government agency use of consumer database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5410080"/>
            <a:ext cx="7543800" cy="734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Recall an occasion when a secondary use of your personal information was ma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The Impact of Computer Technology</a:t>
            </a:r>
            <a:endParaRPr b="0" lang="en-US" sz="32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Computer Matching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Combining and comparing information from more than one database. Some examples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Sharing of government agencies’ databases to detect fraud by recipients of government program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Creating consumer dossiers from various business database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5410080"/>
            <a:ext cx="72392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Recall an example of computer matching that has appeared in the new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The Impact of Computer Technology</a:t>
            </a:r>
            <a:endParaRPr b="0" lang="en-US" sz="32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 </a:t>
            </a: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Profiling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Using data in computer files to predict likely behaviors of people. Some examples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Businesses engage in profiling to determine consumer propensity toward a product or service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Government agencies use profiling to create descriptions of possible terrorist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5410080"/>
            <a:ext cx="62485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How might profiling be used with your personal informatio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The Impact of Computer Technology</a:t>
            </a:r>
            <a:endParaRPr b="0" lang="en-US" sz="32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Monitoring and Tracking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GPS (global positioning system)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Cell-phone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Blackboxes in automobile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Other wireless appliance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5715000"/>
            <a:ext cx="64008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What is the impact of GPS-equipped childrens’ wrist watch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“</a:t>
            </a: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Big Brother is Watching You”</a:t>
            </a:r>
            <a:endParaRPr b="0" lang="en-US" sz="32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Federal Government Databases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urpose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Determine eligibility for jobs and program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Reduce waste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Detect fraud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Law enforcement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Regulations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Privacy Act of 1974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Computer Matching and Privacy Protection Act of 1988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5715000"/>
            <a:ext cx="66294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Which government databases contains your personal informatio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2T04:21:54Z</dcterms:created>
  <dc:creator>Prentice Hall</dc:creator>
  <dc:description/>
  <dc:language>en-US</dc:language>
  <cp:lastModifiedBy>Sara Mayers</cp:lastModifiedBy>
  <dcterms:modified xsi:type="dcterms:W3CDTF">2003-06-30T23:24:57Z</dcterms:modified>
  <cp:revision>137</cp:revision>
  <dc:subject/>
  <dc:title>Privacy and Personal Information</dc:title>
</cp:coreProperties>
</file>